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DEBD-D258-43E8-A1E3-3A0957AA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4D8-47F1-494A-A4DC-44C7F8A3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4151-FB73-43F8-B49D-3E704EFD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9138-7D0F-4683-895E-67EBAE12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8F1A-3E82-4923-94DA-A1CD5493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F1CC-D59F-4359-B6AC-19024522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5BEC-2C8F-4742-9A76-854465B5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F245-5186-4BFC-A7B6-7CA7B146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28A1-9439-48F9-A958-87117339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F12E-6BAF-4D07-93F5-FF9D361B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401E-07F1-4DB4-8210-AD2AD114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CB88-364A-44B8-911F-1C56E9CF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45C2-9930-4D04-8173-F4F58050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A53D-A053-4C14-B97D-D8D4F665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93A7-BAA4-4A20-B036-8980135D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9677-B7CD-45E6-AC71-9C4069A6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ABDE-92B6-4E82-81C0-4B7582E7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EFAD-303A-4F98-890C-1227C370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D363-E879-4899-8FBC-C97CC2BD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8EE1-D25E-4BA1-BDF1-BBDD4004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4820-9F45-4982-BF32-1B3BE3E5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3038-4EF0-444B-9B9C-BE25BB67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90F8-FE9B-4795-8399-E96BF3AA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987D-C0A8-4B4E-BBE3-D8AA7001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ce3d3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dce3d3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dce3d3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dce3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4D0E-C609-4C99-B223-6BA22C901DA6}" type="slidenum">
              <a:rPr b="0" lang="en-AU" sz="1200" spc="-1" strike="noStrike">
                <a:solidFill>
                  <a:srgbClr val="a1a79b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ce3d3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dce3d3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dce3d3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dce3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B03E-2E7D-481A-893C-740A8E9C27F6}" type="slidenum">
              <a:rPr b="0" lang="en-AU" sz="1200" spc="-1" strike="noStrike">
                <a:solidFill>
                  <a:srgbClr val="a1a79b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1596960" y="603360"/>
            <a:ext cx="7096320" cy="1841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99840" y="2508120"/>
            <a:ext cx="70866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1160" indent="-397440">
              <a:spcBef>
                <a:spcPts val="499"/>
              </a:spcBef>
              <a:buClr>
                <a:srgbClr val="d7dece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dce3d3"/>
                </a:solidFill>
                <a:latin typeface="Book Antiqua"/>
              </a:rPr>
              <a:t>VOCAB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461160" indent="-397440">
              <a:spcBef>
                <a:spcPts val="499"/>
              </a:spcBef>
              <a:buClr>
                <a:srgbClr val="d7dece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dce3d3"/>
                </a:solidFill>
                <a:latin typeface="Book Antiqua"/>
              </a:rPr>
              <a:t>HOMEWORK RESPONSE: ORANG-UTANS AND THEIR HABITAT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461160" indent="-397440">
              <a:spcBef>
                <a:spcPts val="499"/>
              </a:spcBef>
              <a:buClr>
                <a:srgbClr val="d7dece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dce3d3"/>
                </a:solidFill>
                <a:latin typeface="Book Antiqua"/>
              </a:rPr>
              <a:t>FACTS ABOUT ORANG-UTANS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461160" indent="-397440">
              <a:spcBef>
                <a:spcPts val="499"/>
              </a:spcBef>
              <a:buClr>
                <a:srgbClr val="d7dece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dce3d3"/>
                </a:solidFill>
                <a:latin typeface="Book Antiqua"/>
              </a:rPr>
              <a:t>PALM OIL FACTS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0070c0"/>
                </a:solidFill>
                <a:latin typeface="Aharoni"/>
                <a:ea typeface="Aharoni"/>
              </a:rPr>
              <a:t>WHY?</a:t>
            </a:r>
            <a:endParaRPr b="0" lang="en-US" sz="96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512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7030a0"/>
                </a:solidFill>
                <a:latin typeface="Book Antiqua"/>
              </a:rPr>
              <a:t>IN FOOD:</a:t>
            </a:r>
            <a:endParaRPr b="0" lang="en-US" sz="36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d0d0d"/>
                </a:solidFill>
                <a:latin typeface="Book Antiqua"/>
              </a:rPr>
              <a:t>Products with the following labels may contain </a:t>
            </a:r>
            <a:r>
              <a:rPr b="1" i="1" lang="en-AU" sz="2800" spc="-1" strike="noStrike">
                <a:solidFill>
                  <a:srgbClr val="0d0d0d"/>
                </a:solidFill>
                <a:latin typeface="Book Antiqua"/>
              </a:rPr>
              <a:t>PALM OIL</a:t>
            </a:r>
            <a:r>
              <a:rPr b="1" lang="en-AU" sz="2800" spc="-1" strike="noStrike">
                <a:solidFill>
                  <a:srgbClr val="0d0d0d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d0d0d"/>
                </a:solidFill>
                <a:latin typeface="Book Antiqua"/>
              </a:rPr>
              <a:t>Vegetable oi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d0d0d"/>
                </a:solidFill>
                <a:latin typeface="Book Antiqua"/>
              </a:rPr>
              <a:t>Sodium laureth sulfate (can be coconut)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d0d0d"/>
                </a:solidFill>
                <a:latin typeface="Book Antiqua"/>
              </a:rPr>
              <a:t>Sodium lauryl sulfate (SLS, can be ricinus)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d0d0d"/>
                </a:solidFill>
                <a:latin typeface="Book Antiqua"/>
              </a:rPr>
              <a:t>Sodium dodecyl sulfate (SDS or NaDS)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d0d0d"/>
                </a:solidFill>
                <a:latin typeface="Book Antiqua"/>
              </a:rPr>
              <a:t>Palm kernel oi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d0d0d"/>
                </a:solidFill>
                <a:latin typeface="Book Antiqua"/>
              </a:rPr>
              <a:t>Palm fruit oi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itle 1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512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0000"/>
                </a:solidFill>
                <a:latin typeface="Book Antiqua"/>
              </a:rPr>
              <a:t>IN COSMETICS (MAKE UP):</a:t>
            </a:r>
            <a:endParaRPr b="0" lang="en-US" sz="36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d0d0d"/>
                </a:solidFill>
                <a:latin typeface="Book Antiqua"/>
              </a:rPr>
              <a:t>Products with the following labels may contain </a:t>
            </a:r>
            <a:r>
              <a:rPr b="1" i="1" lang="en-AU" sz="2800" spc="-1" strike="noStrike">
                <a:solidFill>
                  <a:srgbClr val="0d0d0d"/>
                </a:solidFill>
                <a:latin typeface="Book Antiqua"/>
              </a:rPr>
              <a:t>PALM OIL</a:t>
            </a:r>
            <a:r>
              <a:rPr b="1" lang="en-AU" sz="2800" spc="-1" strike="noStrike">
                <a:solidFill>
                  <a:srgbClr val="0d0d0d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Book Antiqua"/>
              </a:rPr>
              <a:t>Elaeis guineensis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Book Antiqua"/>
              </a:rPr>
              <a:t>Glyceryl stearate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Book Antiqua"/>
              </a:rPr>
              <a:t>Stearic acid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itle 1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512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68360" y="1341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c000"/>
                </a:solidFill>
                <a:latin typeface="Book Antiqua"/>
              </a:rPr>
              <a:t>IN CHEMICALS:</a:t>
            </a:r>
            <a:endParaRPr b="0" lang="en-US" sz="36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d0d0d"/>
                </a:solidFill>
                <a:latin typeface="Book Antiqua"/>
              </a:rPr>
              <a:t>Products with the following labels may contain </a:t>
            </a:r>
            <a:r>
              <a:rPr b="1" i="1" lang="en-AU" sz="2800" spc="-1" strike="noStrike">
                <a:solidFill>
                  <a:srgbClr val="0d0d0d"/>
                </a:solidFill>
                <a:latin typeface="Book Antiqua"/>
              </a:rPr>
              <a:t>PALM OIL</a:t>
            </a:r>
            <a:r>
              <a:rPr b="1" lang="en-AU" sz="2800" spc="-1" strike="noStrike">
                <a:solidFill>
                  <a:srgbClr val="0d0d0d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349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Book Antiqua"/>
              </a:rPr>
              <a:t>Steareth -2, Steareth -20</a:t>
            </a:r>
            <a:endParaRPr b="0" lang="en-US" sz="14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349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Book Antiqua"/>
              </a:rPr>
              <a:t>Sodium lauryl lactylate</a:t>
            </a:r>
            <a:endParaRPr b="0" lang="en-US" sz="14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349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Book Antiqua"/>
              </a:rPr>
              <a:t>Sodium lauryl sulfoacetate (can be coconut)</a:t>
            </a:r>
            <a:endParaRPr b="0" lang="en-US" sz="14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349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Book Antiqua"/>
              </a:rPr>
              <a:t>Hydrated palm glycerides</a:t>
            </a:r>
            <a:endParaRPr b="0" lang="en-US" sz="14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349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Book Antiqua"/>
              </a:rPr>
              <a:t>Sodium isostearoyl lactylaye (from vegetable stearic acid)</a:t>
            </a:r>
            <a:endParaRPr b="0" lang="en-US" sz="14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349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Book Antiqua"/>
              </a:rPr>
              <a:t>Sodium palm kernelte</a:t>
            </a:r>
            <a:endParaRPr b="0" lang="en-US" sz="14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349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Book Antiqua"/>
              </a:rPr>
              <a:t>Cetyle palmitate</a:t>
            </a:r>
            <a:endParaRPr b="0" lang="en-US" sz="14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349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Book Antiqua"/>
              </a:rPr>
              <a:t>Octyle palmitate (anything with palmitate at end)</a:t>
            </a:r>
            <a:endParaRPr b="0" lang="en-US" sz="14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349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Book Antiqua"/>
              </a:rPr>
              <a:t>Palmalein, Palm olein</a:t>
            </a:r>
            <a:endParaRPr b="0" lang="en-US" sz="14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Book Antiqua"/>
              </a:rPr>
              <a:t>The scientific name of orang-utan is Pongo Pygmaeus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Book Antiqua"/>
              </a:rPr>
              <a:t>In Malay, the name “orang-utan” means </a:t>
            </a:r>
            <a:r>
              <a:rPr b="1" i="1" lang="en-AU" sz="2800" spc="-1" strike="noStrike">
                <a:solidFill>
                  <a:srgbClr val="000000"/>
                </a:solidFill>
                <a:latin typeface="Book Antiqua"/>
              </a:rPr>
              <a:t>“Person of the forest”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k Antiqua"/>
              </a:rPr>
              <a:t>Orang-utans live only in the wild in Borneo and Northern Sumatra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Title 1" descr=""/>
          <p:cNvPicPr/>
          <p:nvPr/>
        </p:nvPicPr>
        <p:blipFill>
          <a:blip r:embed="rId1"/>
          <a:stretch/>
        </p:blipFill>
        <p:spPr>
          <a:xfrm>
            <a:off x="1279440" y="603360"/>
            <a:ext cx="7413840" cy="19875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71280" y="3213000"/>
            <a:ext cx="70866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0280" indent="-457200">
              <a:spcBef>
                <a:spcPts val="499"/>
              </a:spcBef>
              <a:buClr>
                <a:srgbClr val="d7dece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Book Antiqua"/>
              </a:rPr>
              <a:t>VOCAB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530280" indent="-457200">
              <a:spcBef>
                <a:spcPts val="499"/>
              </a:spcBef>
              <a:buClr>
                <a:srgbClr val="d7dece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Book Antiqua"/>
              </a:rPr>
              <a:t>RESEARCH: WHAT DO ORANGUTANS EAT?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53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1596960" y="603360"/>
            <a:ext cx="7096320" cy="1987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2508120"/>
            <a:ext cx="829152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Book Antiqua"/>
              </a:rPr>
              <a:t>FACTS ABOUT ORANG-UTANS AND THEIR HABITAT</a:t>
            </a:r>
            <a:r>
              <a:rPr b="0" lang="en-AU" sz="20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88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1596960" y="603360"/>
            <a:ext cx="7096320" cy="1987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99840" y="2508120"/>
            <a:ext cx="70866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325520" indent="-457200">
              <a:spcBef>
                <a:spcPts val="451"/>
              </a:spcBef>
              <a:buClr>
                <a:srgbClr val="dce3d3"/>
              </a:buClr>
              <a:buSzPct val="80000"/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5eadf"/>
                </a:solidFill>
                <a:latin typeface="Book Antiqua"/>
              </a:rPr>
              <a:t>WHAT DID WE DISCUSS LAST WEEK?</a:t>
            </a:r>
            <a:endParaRPr b="0" lang="en-US" sz="1800" spc="-1" strike="noStrike">
              <a:solidFill>
                <a:srgbClr val="dce3d3"/>
              </a:solidFill>
              <a:latin typeface="Book Antiqua"/>
            </a:endParaRPr>
          </a:p>
          <a:p>
            <a:pPr lvl="1" marL="1325520" indent="-457200">
              <a:spcBef>
                <a:spcPts val="451"/>
              </a:spcBef>
              <a:buClr>
                <a:srgbClr val="dce3d3"/>
              </a:buClr>
              <a:buSzPct val="80000"/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5eadf"/>
                </a:solidFill>
                <a:latin typeface="Book Antiqua"/>
              </a:rPr>
              <a:t>WHAT ARE THE THREE STAGES BEFORE ANIMALS BECOME EXTINCT?</a:t>
            </a:r>
            <a:endParaRPr b="0" lang="en-US" sz="1800" spc="-1" strike="noStrike">
              <a:solidFill>
                <a:srgbClr val="dce3d3"/>
              </a:solidFill>
              <a:latin typeface="Book Antiqua"/>
            </a:endParaRPr>
          </a:p>
          <a:p>
            <a:pPr lvl="1" marL="13255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Book Antiqua"/>
            </a:endParaRPr>
          </a:p>
          <a:p>
            <a:pPr lvl="1" marL="13255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Book Antiqua"/>
            </a:endParaRPr>
          </a:p>
          <a:p>
            <a:pPr lvl="1" marL="13255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Book Antiqua"/>
            </a:endParaRPr>
          </a:p>
          <a:p>
            <a:pPr lvl="1" marL="13255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Book Antiqua"/>
            </a:endParaRPr>
          </a:p>
          <a:p>
            <a:pPr marL="7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92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2195640" y="3645000"/>
            <a:ext cx="4824360" cy="1079280"/>
          </a:xfrm>
          <a:prstGeom prst="rect">
            <a:avLst/>
          </a:prstGeom>
          <a:solidFill>
            <a:srgbClr val="ffff00"/>
          </a:solidFill>
          <a:ln w="25560">
            <a:solidFill>
              <a:srgbClr val="5465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195640" y="4508640"/>
            <a:ext cx="4824360" cy="1081080"/>
          </a:xfrm>
          <a:prstGeom prst="rect">
            <a:avLst/>
          </a:prstGeom>
          <a:solidFill>
            <a:srgbClr val="f05510"/>
          </a:solidFill>
          <a:ln w="25560">
            <a:solidFill>
              <a:srgbClr val="5465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268360" y="5445000"/>
            <a:ext cx="4824720" cy="1079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465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2916360" y="580536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ce3d3"/>
                </a:solidFill>
                <a:latin typeface="Arial"/>
              </a:rPr>
              <a:t>EXTINCT</a:t>
            </a:r>
            <a:endParaRPr b="0" lang="en-US" sz="44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2771640" y="4581360"/>
            <a:ext cx="44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ce3d3"/>
                </a:solidFill>
                <a:latin typeface="Arial"/>
              </a:rPr>
              <a:t>ENDANGERED</a:t>
            </a:r>
            <a:endParaRPr b="0" lang="en-US" sz="44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2556000" y="3716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REATENED</a:t>
            </a:r>
            <a:endParaRPr b="0" lang="en-US" sz="44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158760" y="755640"/>
            <a:ext cx="9326520" cy="3236760"/>
          </a:xfrm>
          <a:prstGeom prst="rect">
            <a:avLst/>
          </a:prstGeom>
          <a:ln w="0">
            <a:noFill/>
          </a:ln>
        </p:spPr>
      </p:pic>
      <p:sp>
        <p:nvSpPr>
          <p:cNvPr id="101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-6480" y="165240"/>
            <a:ext cx="8242560" cy="16333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755640" y="1484280"/>
            <a:ext cx="789300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e3e9dd"/>
                </a:solidFill>
                <a:latin typeface="Arial"/>
              </a:rPr>
              <a:t>OUTLINE: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aking a closer look at the price of progress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he Orang-utan situation: View geographic videos online. 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iscuss and make notes of what country/habitat looks like. Emphasising the need for many trees for the survival of orang-utans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iscuss reason for habitat being cut down (Palm oil)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Explain and show examples of palm oil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Hand out list of companies and foods that use palm oil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HOMEWORK: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GLOSSARY/VOCAB; Research topic: shelter and survival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05" name="Date Placeholder 4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457200" y="-176040"/>
            <a:ext cx="8674200" cy="2736720"/>
          </a:xfrm>
          <a:prstGeom prst="rect">
            <a:avLst/>
          </a:prstGeom>
          <a:ln w="0">
            <a:noFill/>
          </a:ln>
        </p:spPr>
      </p:pic>
      <p:sp>
        <p:nvSpPr>
          <p:cNvPr id="108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pic>
        <p:nvPicPr>
          <p:cNvPr id="110" name="Picture 10" descr="http://www.african-safari-journals.com/image-files/orangutan-pictures.jpg"/>
          <p:cNvPicPr/>
          <p:nvPr/>
        </p:nvPicPr>
        <p:blipFill>
          <a:blip r:embed="rId2"/>
          <a:stretch/>
        </p:blipFill>
        <p:spPr>
          <a:xfrm>
            <a:off x="2340000" y="1125360"/>
            <a:ext cx="46083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358480" cy="1439640"/>
          </a:xfrm>
          <a:prstGeom prst="rect">
            <a:avLst/>
          </a:prstGeom>
          <a:ln w="0">
            <a:noFill/>
          </a:ln>
        </p:spPr>
      </p:pic>
      <p:sp>
        <p:nvSpPr>
          <p:cNvPr id="112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pic>
        <p:nvPicPr>
          <p:cNvPr id="114" name="Picture 2" descr="http://www.tropical-rainforest-animals.com/image-files/orangutan2.jpg"/>
          <p:cNvPicPr/>
          <p:nvPr/>
        </p:nvPicPr>
        <p:blipFill>
          <a:blip r:embed="rId2"/>
          <a:stretch/>
        </p:blipFill>
        <p:spPr>
          <a:xfrm>
            <a:off x="1476360" y="1557360"/>
            <a:ext cx="597528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448840" cy="1439640"/>
          </a:xfrm>
          <a:prstGeom prst="rect">
            <a:avLst/>
          </a:prstGeom>
          <a:ln w="0">
            <a:noFill/>
          </a:ln>
        </p:spPr>
      </p:pic>
      <p:sp>
        <p:nvSpPr>
          <p:cNvPr id="116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pic>
        <p:nvPicPr>
          <p:cNvPr id="118" name="Picture 2" descr="http://www.greenprophet.com/wp-content/uploads/2010/04/indonesia-rainforest-nestle-orangutan.jpg"/>
          <p:cNvPicPr/>
          <p:nvPr/>
        </p:nvPicPr>
        <p:blipFill>
          <a:blip r:embed="rId2"/>
          <a:stretch/>
        </p:blipFill>
        <p:spPr>
          <a:xfrm>
            <a:off x="684360" y="1341360"/>
            <a:ext cx="74689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1"/>
          <a:stretch/>
        </p:blipFill>
        <p:spPr>
          <a:xfrm>
            <a:off x="463680" y="-6480"/>
            <a:ext cx="8242200" cy="1560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68360" y="1557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Book Antiqua"/>
              </a:rPr>
              <a:t>1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10:01:51Z</dcterms:created>
  <dc:creator>Taylor</dc:creator>
  <dc:description/>
  <dc:language>en-US</dc:language>
  <cp:lastModifiedBy>Education</cp:lastModifiedBy>
  <dcterms:modified xsi:type="dcterms:W3CDTF">2010-08-03T02:51:20Z</dcterms:modified>
  <cp:revision>54</cp:revision>
  <dc:subject/>
  <dc:title>DEFORESTATION</dc:title>
</cp:coreProperties>
</file>